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E2E-6353-4CA7-A667-64B88734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9D4-00CE-4583-A9E7-350685A6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A73-1F5A-489D-88BB-B2AE11A7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FCF-6A7D-4ABB-B66F-6A12207A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6FE-D614-4372-84B7-EBC34EC0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402-E210-4F82-9A65-D616D58E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7E3-79D7-40D6-BDC1-0350A66F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FD4-3C91-4566-964D-C9E904C4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B01-FA99-479E-B7D6-73C7900D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5AE-BA53-42F4-83FB-AA9AA545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479-E170-4E2F-9085-C3701B29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B17-7182-4ADC-AC11-E8889EBA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5B5C-E440-49C2-A6AB-D8975C985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636640"/>
            <a:ext cx="56880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3300"/>
                </a:solidFill>
                <a:latin typeface="Albertus Extra Bold"/>
                <a:ea typeface="方正琥珀简体"/>
              </a:rPr>
              <a:t>离别的礼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101080" y="-27000"/>
            <a:ext cx="1042920" cy="68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620640"/>
            <a:ext cx="2411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411280" y="620640"/>
            <a:ext cx="673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konqin"/>
          <p:cNvPicPr/>
          <p:nvPr/>
        </p:nvPicPr>
        <p:blipFill>
          <a:blip r:embed="rId2"/>
          <a:stretch/>
        </p:blipFill>
        <p:spPr>
          <a:xfrm>
            <a:off x="468360" y="404640"/>
            <a:ext cx="17161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400" y="571680"/>
            <a:ext cx="82580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我把菜汤洒到自己衣服上时，当我忘记怎样系鞋带时，请想一想当初我是如何手把手的教你。当我一遍又一遍地重复你早已听腻的话语，请耐心地听我说，不要打断我。你小的时候，我不得不重复那个讲过千百遍的故事，直到你进入梦乡。当我由于双腿疲劳而无法行走时，请伸出你年轻有力的手搀扶我。就像你小时候学习走路时，我扶你那样。当你看着老去的我，请不要悲伤。理解我，支持我，就像你刚开始学习如何生活时我对你那样。当初我引导你走上人生路，如今请你陪伴我走完最后的路。给我你的爱和耐心，我会报以感激的微笑，这微笑中凝结着我对你无限的爱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6760" y="356760"/>
            <a:ext cx="835812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一个初秋的晚上，清风徐徐吹来，夜色迷人。属于什么描写？此句有什么深刻含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，“爷爷吹起了一支欢乐的曲子。”——此时吹欢乐的曲子，既不切合爷爷的心情，也与当时的氛围不协调，改为“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悲伤的曲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不好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，把“娇声娇气”换成“冷冰冰”，不是更符合女人的性格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倒数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，“一层毯子足够送走一个老头儿，省下一半，留着以后会用得着的。”怎样理解这句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篇文章没有写出故事的结局，你能为它设计一个合理的结局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>
            <a:hlinkClick r:id="rId2" action="ppaction://hlinksldjump"/>
          </p:cNvPr>
          <p:cNvSpPr/>
          <p:nvPr/>
        </p:nvSpPr>
        <p:spPr>
          <a:xfrm>
            <a:off x="34920" y="404640"/>
            <a:ext cx="1224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胖娃简体"/>
              </a:rPr>
              <a:t>感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332000" y="3716280"/>
            <a:ext cx="1655640" cy="432000"/>
            <a:chOff x="1332000" y="3716280"/>
            <a:chExt cx="1655640" cy="432000"/>
          </a:xfrm>
        </p:grpSpPr>
        <p:sp>
          <p:nvSpPr>
            <p:cNvPr id="50" name="Rectangle 5"/>
            <p:cNvSpPr/>
            <p:nvPr/>
          </p:nvSpPr>
          <p:spPr>
            <a:xfrm>
              <a:off x="1332000" y="3716280"/>
              <a:ext cx="1655640" cy="432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  <a:effectLst>
              <a:outerShdw dist="107932" dir="2700000" blurRad="0" rotWithShape="0">
                <a:srgbClr val="8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692000" y="3716280"/>
              <a:ext cx="96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答  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928800" y="4581360"/>
            <a:ext cx="72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928800" y="4429080"/>
            <a:ext cx="7286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描写；“迷人的月色”与离别的沉郁气氛形成了强烈的对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了故事的悲剧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1071720" y="185724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初秋的晚上，清风徐徐吹来，夜色迷人。属于什么描写？此句有什么深刻含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917360"/>
            <a:ext cx="770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．第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自然段，“爷爷吹起了一支吹乐的曲子。”——此时吹欢乐的曲子，既不切合爷爷的心情，也与当时的氛围不协调，改为“</a:t>
            </a:r>
            <a:r>
              <a:rPr b="1" lang="zh-CN" sz="2300" spc="-1" strike="noStrike">
                <a:solidFill>
                  <a:srgbClr val="cc3300"/>
                </a:solidFill>
                <a:latin typeface="宋体"/>
              </a:rPr>
              <a:t>悲伤的曲子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”不好吗？为什么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>
            <a:hlinkClick r:id="rId2" action="ppaction://hlinksldjump"/>
          </p:cNvPr>
          <p:cNvSpPr/>
          <p:nvPr/>
        </p:nvSpPr>
        <p:spPr>
          <a:xfrm>
            <a:off x="34920" y="40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胖娃简体"/>
              </a:rPr>
              <a:t>品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187280" y="45007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爷爷是一个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为别人着想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的人，为了安慰孙子，努力掩饰悲痛，佯装欢乐。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欢乐的曲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与当时的气氛构成了强烈的反差，增强了艺术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1428840" y="3571920"/>
            <a:ext cx="1655640" cy="431640"/>
            <a:chOff x="1428840" y="3571920"/>
            <a:chExt cx="1655640" cy="431640"/>
          </a:xfrm>
        </p:grpSpPr>
        <p:sp>
          <p:nvSpPr>
            <p:cNvPr id="59" name="Rectangle 6"/>
            <p:cNvSpPr/>
            <p:nvPr/>
          </p:nvSpPr>
          <p:spPr>
            <a:xfrm>
              <a:off x="1428840" y="3571920"/>
              <a:ext cx="1655640" cy="431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  <a:effectLst>
              <a:outerShdw dist="107932" dir="2700000" blurRad="0" rotWithShape="0">
                <a:srgbClr val="8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1788840" y="3571920"/>
              <a:ext cx="96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答  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1917360"/>
            <a:ext cx="770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．第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自然段，把“娇声娇气”换成“冷冰冰”，不是更符合女人的性格吗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>
            <a:hlinkClick r:id="rId2" action="ppaction://hlinksldjump"/>
          </p:cNvPr>
          <p:cNvSpPr/>
          <p:nvPr/>
        </p:nvSpPr>
        <p:spPr>
          <a:xfrm>
            <a:off x="34920" y="40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胖娃简体"/>
              </a:rPr>
              <a:t>品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71720" y="42148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娇声娇气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显出女人的虚情假意，而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冷冰冰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过于直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000080" y="3214800"/>
            <a:ext cx="1655640" cy="431640"/>
            <a:chOff x="1000080" y="3214800"/>
            <a:chExt cx="1655640" cy="431640"/>
          </a:xfrm>
        </p:grpSpPr>
        <p:sp>
          <p:nvSpPr>
            <p:cNvPr id="65" name="Rectangle 6"/>
            <p:cNvSpPr/>
            <p:nvPr/>
          </p:nvSpPr>
          <p:spPr>
            <a:xfrm>
              <a:off x="1000080" y="3214800"/>
              <a:ext cx="1655640" cy="431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  <a:effectLst>
              <a:outerShdw dist="107932" dir="2700000" blurRad="0" rotWithShape="0">
                <a:srgbClr val="8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>
              <a:off x="1360080" y="3214800"/>
              <a:ext cx="96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答  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040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3600" indent="0">
              <a:lnSpc>
                <a:spcPct val="130000"/>
              </a:lnSpc>
              <a:buNone/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倒数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自然段，“一层毯子足够送走一个老头儿，省下一半，留着以后会用得着的。”怎样理解这句话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>
            <a:hlinkClick r:id="rId2" action="ppaction://hlinksldjump"/>
          </p:cNvPr>
          <p:cNvSpPr/>
          <p:nvPr/>
        </p:nvSpPr>
        <p:spPr>
          <a:xfrm>
            <a:off x="34920" y="40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胖娃简体"/>
              </a:rPr>
              <a:t>品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857160" y="4000680"/>
            <a:ext cx="6985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留着以后会用得着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，暗示等你们老了，我也会用半床毛毯打发你们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讽刺爸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爸爸回心转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这么绝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928800" y="3357720"/>
            <a:ext cx="1655640" cy="431640"/>
            <a:chOff x="928800" y="3357720"/>
            <a:chExt cx="1655640" cy="431640"/>
          </a:xfrm>
        </p:grpSpPr>
        <p:sp>
          <p:nvSpPr>
            <p:cNvPr id="71" name="Rectangle 6"/>
            <p:cNvSpPr/>
            <p:nvPr/>
          </p:nvSpPr>
          <p:spPr>
            <a:xfrm>
              <a:off x="928800" y="3357720"/>
              <a:ext cx="1655640" cy="431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  <a:effectLst>
              <a:outerShdw dist="107932" dir="2700000" blurRad="0" rotWithShape="0">
                <a:srgbClr val="8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1288800" y="3357720"/>
              <a:ext cx="96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答  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USER</cp:lastModifiedBy>
  <dcterms:modified xsi:type="dcterms:W3CDTF">2015-08-04T23:05:4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